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wmf" ContentType="image/x-wmf"/>
  <Override PartName="/ppt/media/image15.jpeg" ContentType="image/jpeg"/>
  <Override PartName="/ppt/media/image24.wmf" ContentType="image/x-wmf"/>
  <Override PartName="/ppt/media/image22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26.wmf" ContentType="image/x-wmf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5.jpeg" ContentType="image/jpeg"/>
  <Override PartName="/ppt/media/image20.wmf" ContentType="image/x-wmf"/>
  <Override PartName="/ppt/media/image23.wmf" ContentType="image/x-wmf"/>
  <Override PartName="/ppt/media/image11.jpeg" ContentType="image/jpeg"/>
  <Override PartName="/ppt/media/image36.png" ContentType="image/png"/>
  <Override PartName="/ppt/media/image37.wmf" ContentType="image/x-wmf"/>
  <Override PartName="/ppt/media/image35.png" ContentType="image/png"/>
  <Override PartName="/ppt/media/image43.jpeg" ContentType="image/jpeg"/>
  <Override PartName="/ppt/media/image40.png" ContentType="image/png"/>
  <Override PartName="/ppt/media/image38.wmf" ContentType="image/x-wmf"/>
  <Override PartName="/ppt/media/image39.png" ContentType="image/png"/>
  <Override PartName="/ppt/media/image30.png" ContentType="image/pn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42.png" ContentType="image/png"/>
  <Override PartName="/ppt/media/image6.jpeg" ContentType="image/jpeg"/>
  <Override PartName="/ppt/media/image44.jpeg" ContentType="image/jpeg"/>
  <Override PartName="/ppt/media/image9.wmf" ContentType="image/x-wmf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10234613" cy="7102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10234800" cy="71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4337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579564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3341160" y="531720"/>
            <a:ext cx="3549960" cy="266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5320" cy="31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6746760"/>
            <a:ext cx="4433760" cy="354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5795640" y="6746760"/>
            <a:ext cx="4435560" cy="354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4E1E-E356-4049-9E60-15BFDCC3748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49960" cy="2664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023480" y="3373560"/>
            <a:ext cx="81853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796000" y="6746760"/>
            <a:ext cx="44355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CBB1-75FD-4D73-BA57-1ED3645B003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713-EE3C-4BAB-8830-5E719537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640-607E-4A84-8943-B6353547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12E-8813-4AE2-9193-31FF0F4D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C49-63EB-49CC-B00A-755B3E0B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09A39-5567-47A1-97E9-890150AEFB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6D865-D665-4B5B-9ECD-2342B50DBC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23B78-502D-4A5F-A539-1289D9F133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2134F-70E2-4729-8CEC-1930395F47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9DA4E-8C35-4746-83EF-5BCED3D0DC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3DE37-8E91-4541-A488-E1058C95AD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91118-B8BC-4418-BF9C-69D0417EE4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CC4-CE25-4ED0-AC60-244D9FBD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264A3-1B59-464E-B76E-E75E088757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CEAE1-11E3-4982-8311-DD90A27087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C4707-850A-4B0F-ACCA-4DD2286C0D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AB14D-C8F2-4EB3-A263-EB3439DC40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0E1D3-CB89-4A6A-BE97-56F57DD4A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B5E-6D0E-43E5-868A-36A4EBBA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A3E-8521-40ED-B70A-24F12146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8F4-447E-42EC-8FC5-65666776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D18-A2E1-4A5C-B423-D8BB80AF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D7D-A8B1-49B4-9643-6CA4390F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A6E-C546-44C4-8182-84A6A70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BBF-5B12-460C-87A9-24339275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C57D-8567-48B0-9F1B-7EDFCD6433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2379-0740-4E37-BEE0-930984307F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2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6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Waste Plastics Oyster Basket Recycling – Feasibility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187280" y="5805360"/>
            <a:ext cx="74883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ccff"/>
                </a:solidFill>
                <a:latin typeface="Arial"/>
              </a:rPr>
              <a:t>SAOGA Annual Seminar Workshop 8 August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Rawtec &amp; Econ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:\Data\Rawtec\Rawtec Projects\Current Projects\RDA Oyster Bay Project\SAOGA Seminar\Data\SAOGA logo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700360" y="260280"/>
            <a:ext cx="1942920" cy="97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:\Data\Rawtec\Rawtec Projects\Current Projects\RDA Oyster Bay Project\SAOGA Seminar\Data\logo_epa.gif"/>
          <p:cNvPicPr/>
          <p:nvPr/>
        </p:nvPicPr>
        <p:blipFill>
          <a:blip r:embed="rId2"/>
          <a:stretch/>
        </p:blipFill>
        <p:spPr>
          <a:xfrm>
            <a:off x="7812000" y="333360"/>
            <a:ext cx="863640" cy="94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0" descr="RDA - Logo.BMP"/>
          <p:cNvPicPr/>
          <p:nvPr/>
        </p:nvPicPr>
        <p:blipFill>
          <a:blip r:embed="rId3"/>
          <a:stretch/>
        </p:blipFill>
        <p:spPr>
          <a:xfrm>
            <a:off x="324000" y="333360"/>
            <a:ext cx="2087280" cy="90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C:\Data\Rawtec\Rawtec Projects\Current Projects\RDA Oyster Bay Project\SAOGA Seminar\Data\logo_dmitre.png"/>
          <p:cNvPicPr/>
          <p:nvPr/>
        </p:nvPicPr>
        <p:blipFill>
          <a:blip r:embed="rId4"/>
          <a:stretch/>
        </p:blipFill>
        <p:spPr>
          <a:xfrm>
            <a:off x="4788000" y="404640"/>
            <a:ext cx="2681280" cy="79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Data\Rawtec\Rawtec Projects\Current Projects\RDA Oyster Bay Project\SAOGA Seminar\Data\oyers-from-growers.jpg"/>
          <p:cNvPicPr/>
          <p:nvPr/>
        </p:nvPicPr>
        <p:blipFill>
          <a:blip r:embed="rId5"/>
          <a:stretch/>
        </p:blipFill>
        <p:spPr>
          <a:xfrm>
            <a:off x="1187280" y="3213000"/>
            <a:ext cx="129708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C:\Data\Rawtec\Rawtec Projects\Current Projects\RDA Oyster Bay Project\SAOGA Seminar\Data\Harvest.jpg"/>
          <p:cNvPicPr/>
          <p:nvPr/>
        </p:nvPicPr>
        <p:blipFill>
          <a:blip r:embed="rId6"/>
          <a:stretch/>
        </p:blipFill>
        <p:spPr>
          <a:xfrm>
            <a:off x="2556000" y="3213000"/>
            <a:ext cx="231444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C:\Data\Rawtec\Rawtec Projects\Current Projects\RDA Oyster Bay Project\Site Visits June 2013\Photos - Cowell &amp; Coffin Bay\IMG_3277.JPG"/>
          <p:cNvPicPr/>
          <p:nvPr/>
        </p:nvPicPr>
        <p:blipFill>
          <a:blip r:embed="rId7"/>
          <a:stretch/>
        </p:blipFill>
        <p:spPr>
          <a:xfrm>
            <a:off x="4943520" y="3213000"/>
            <a:ext cx="327816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C:\Users\Chris\AppData\Local\Microsoft\Windows\Temporary Internet Files\Content.Word\photo.jpg"/>
          <p:cNvPicPr/>
          <p:nvPr/>
        </p:nvPicPr>
        <p:blipFill>
          <a:blip r:embed="rId8"/>
          <a:srcRect l="13461" t="38283" r="13257" b="14472"/>
          <a:stretch/>
        </p:blipFill>
        <p:spPr>
          <a:xfrm>
            <a:off x="1187280" y="4581360"/>
            <a:ext cx="1297080" cy="1079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"/>
          <p:cNvPicPr/>
          <p:nvPr/>
        </p:nvPicPr>
        <p:blipFill>
          <a:blip r:embed="rId9"/>
          <a:stretch/>
        </p:blipFill>
        <p:spPr>
          <a:xfrm>
            <a:off x="7596360" y="6421320"/>
            <a:ext cx="1296720" cy="436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LOGO.jpg"/>
          <p:cNvPicPr/>
          <p:nvPr/>
        </p:nvPicPr>
        <p:blipFill>
          <a:blip r:embed="rId10"/>
          <a:stretch/>
        </p:blipFill>
        <p:spPr>
          <a:xfrm>
            <a:off x="6843600" y="6415200"/>
            <a:ext cx="6811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Key find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C:\Data\Rawtec\Rawtec Projects\Current Projects\RDA Oyster Bay Project\Data\Shredding &amp; Baling Equipment\Shark shredder picture.jpg"/>
          <p:cNvPicPr/>
          <p:nvPr/>
        </p:nvPicPr>
        <p:blipFill>
          <a:blip r:embed="rId1"/>
          <a:srcRect l="0" t="33552" r="0" b="8521"/>
          <a:stretch/>
        </p:blipFill>
        <p:spPr>
          <a:xfrm>
            <a:off x="900000" y="2492280"/>
            <a:ext cx="73440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5113440" cy="5113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Oyster Basket Materi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epends on basket type &amp;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Substantial (recyclable) plastic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DPE – All baske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P – Manufactured basket + Aqua-t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But other materials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4408560" y="1557360"/>
            <a:ext cx="4419360" cy="5111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How long do baskets las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4920" y="1483920"/>
            <a:ext cx="4032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OL depends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Quality of plastic body ma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Type of bas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Quality of co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Marine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Handling &amp;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Unique to each grower’s circum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EOL is not a “discrete” eve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 rot="5400000">
            <a:off x="3908880" y="1786320"/>
            <a:ext cx="5502240" cy="4465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How much waste is generat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4920" y="1484280"/>
            <a:ext cx="4321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epends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Leas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Baske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Basket den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ifferent for each B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n 201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120-150 thousand baskets/y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150-200 tonnes of waste/y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Future disposal rates would be simi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698800" cy="5113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How much is being stockpil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483920"/>
            <a:ext cx="433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epends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Disposal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Disposal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Disposal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Again, each Bay   diffe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By 201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1200-1300 ton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&gt; 1 million bas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No chang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Current growth could continu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Where is this stockpile locat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7770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Who can recycle it &amp; in what for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otential recip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ggregators – Coll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b050"/>
                </a:solidFill>
                <a:latin typeface="Arial"/>
              </a:rPr>
              <a:t>Re-processors – Recover &amp; gran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yclers –  Manufacture recycle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 what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ste needs to be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single polymer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aled or “As-is” preferred but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shredded okay (if sorted, “clean” &amp; single poly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ever, only one Adelaide-based re-processor willing to accept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 limited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Rebat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dependant on quality &amp; type of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Freeform 51"/>
          <p:cNvGrpSpPr/>
          <p:nvPr/>
        </p:nvGrpSpPr>
        <p:grpSpPr>
          <a:xfrm>
            <a:off x="298440" y="1243080"/>
            <a:ext cx="6242040" cy="4462560"/>
            <a:chOff x="298440" y="1243080"/>
            <a:chExt cx="6242040" cy="4462560"/>
          </a:xfrm>
        </p:grpSpPr>
        <p:pic>
          <p:nvPicPr>
            <p:cNvPr id="167" name="Freeform 51" descr=""/>
            <p:cNvPicPr/>
            <p:nvPr/>
          </p:nvPicPr>
          <p:blipFill>
            <a:blip r:embed="rId1"/>
            <a:stretch/>
          </p:blipFill>
          <p:spPr>
            <a:xfrm>
              <a:off x="298440" y="1243080"/>
              <a:ext cx="6242040" cy="44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68360" y="1413000"/>
              <a:ext cx="5904000" cy="41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How would we recyc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4" descr=""/>
          <p:cNvPicPr/>
          <p:nvPr/>
        </p:nvPicPr>
        <p:blipFill>
          <a:blip r:embed="rId2"/>
          <a:stretch/>
        </p:blipFill>
        <p:spPr>
          <a:xfrm>
            <a:off x="1962000" y="2901960"/>
            <a:ext cx="1908360" cy="76212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5" descr=""/>
          <p:cNvPicPr/>
          <p:nvPr/>
        </p:nvPicPr>
        <p:blipFill>
          <a:blip r:embed="rId3"/>
          <a:stretch/>
        </p:blipFill>
        <p:spPr>
          <a:xfrm>
            <a:off x="3475080" y="3906720"/>
            <a:ext cx="1839960" cy="54936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6" descr=""/>
          <p:cNvPicPr/>
          <p:nvPr/>
        </p:nvPicPr>
        <p:blipFill>
          <a:blip r:embed="rId4"/>
          <a:stretch/>
        </p:blipFill>
        <p:spPr>
          <a:xfrm>
            <a:off x="4559400" y="4840200"/>
            <a:ext cx="2401920" cy="549360"/>
          </a:xfrm>
          <a:prstGeom prst="rect">
            <a:avLst/>
          </a:prstGeom>
          <a:ln w="0">
            <a:noFill/>
          </a:ln>
        </p:spPr>
      </p:pic>
      <p:sp>
        <p:nvSpPr>
          <p:cNvPr id="173" name="Bent-Up Arrow 7"/>
          <p:cNvSpPr/>
          <p:nvPr/>
        </p:nvSpPr>
        <p:spPr>
          <a:xfrm flipV="1">
            <a:off x="2411280" y="1988280"/>
            <a:ext cx="648000" cy="863640"/>
          </a:xfrm>
          <a:custGeom>
            <a:avLst/>
            <a:gdLst>
              <a:gd name="textAreaLeft" fmla="*/ 0 w 648000"/>
              <a:gd name="textAreaRight" fmla="*/ 567000 w 648000"/>
              <a:gd name="textAreaTop" fmla="*/ 701640 h 863640"/>
              <a:gd name="textAreaBottom" fmla="*/ 863640 h 863640"/>
            </a:gdLst>
            <a:ahLst/>
            <a:rect l="textAreaLeft" t="textAreaTop" r="textAreaRight" b="textAreaBottom"/>
            <a:pathLst>
              <a:path w="647700" h="863600">
                <a:moveTo>
                  <a:pt x="0" y="701675"/>
                </a:moveTo>
                <a:lnTo>
                  <a:pt x="404813" y="701675"/>
                </a:lnTo>
                <a:lnTo>
                  <a:pt x="404813" y="161925"/>
                </a:lnTo>
                <a:lnTo>
                  <a:pt x="323850" y="161925"/>
                </a:lnTo>
                <a:lnTo>
                  <a:pt x="485775" y="0"/>
                </a:lnTo>
                <a:lnTo>
                  <a:pt x="647700" y="161925"/>
                </a:lnTo>
                <a:lnTo>
                  <a:pt x="566738" y="161925"/>
                </a:lnTo>
                <a:lnTo>
                  <a:pt x="566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ccc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Rectangle 10" descr=""/>
          <p:cNvPicPr/>
          <p:nvPr/>
        </p:nvPicPr>
        <p:blipFill>
          <a:blip r:embed="rId5"/>
          <a:stretch/>
        </p:blipFill>
        <p:spPr>
          <a:xfrm>
            <a:off x="6156360" y="5784840"/>
            <a:ext cx="2511360" cy="90180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12" descr=""/>
          <p:cNvPicPr/>
          <p:nvPr/>
        </p:nvPicPr>
        <p:blipFill>
          <a:blip r:embed="rId6"/>
          <a:stretch/>
        </p:blipFill>
        <p:spPr>
          <a:xfrm>
            <a:off x="615960" y="1450800"/>
            <a:ext cx="1792440" cy="1273320"/>
          </a:xfrm>
          <a:prstGeom prst="rect">
            <a:avLst/>
          </a:prstGeom>
          <a:ln w="0">
            <a:noFill/>
          </a:ln>
        </p:spPr>
      </p:pic>
      <p:sp>
        <p:nvSpPr>
          <p:cNvPr id="176" name="Down Arrow 17"/>
          <p:cNvSpPr/>
          <p:nvPr/>
        </p:nvSpPr>
        <p:spPr>
          <a:xfrm>
            <a:off x="1332000" y="2781360"/>
            <a:ext cx="144360" cy="1942920"/>
          </a:xfrm>
          <a:prstGeom prst="downArrow">
            <a:avLst>
              <a:gd name="adj1" fmla="val 50000"/>
              <a:gd name="adj2" fmla="val 4984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Rectangle 18" descr=""/>
          <p:cNvPicPr/>
          <p:nvPr/>
        </p:nvPicPr>
        <p:blipFill>
          <a:blip r:embed="rId7"/>
          <a:stretch/>
        </p:blipFill>
        <p:spPr>
          <a:xfrm>
            <a:off x="884160" y="4737240"/>
            <a:ext cx="1116000" cy="596880"/>
          </a:xfrm>
          <a:prstGeom prst="rect">
            <a:avLst/>
          </a:prstGeom>
          <a:ln w="0">
            <a:noFill/>
          </a:ln>
        </p:spPr>
      </p:pic>
      <p:pic>
        <p:nvPicPr>
          <p:cNvPr id="178" name="Rectangle 19" descr=""/>
          <p:cNvPicPr/>
          <p:nvPr/>
        </p:nvPicPr>
        <p:blipFill>
          <a:blip r:embed="rId8"/>
          <a:stretch/>
        </p:blipFill>
        <p:spPr>
          <a:xfrm>
            <a:off x="590400" y="5711760"/>
            <a:ext cx="1768680" cy="689040"/>
          </a:xfrm>
          <a:prstGeom prst="rect">
            <a:avLst/>
          </a:prstGeom>
          <a:ln w="0">
            <a:noFill/>
          </a:ln>
        </p:spPr>
      </p:pic>
      <p:sp>
        <p:nvSpPr>
          <p:cNvPr id="179" name="Bent-Up Arrow 20"/>
          <p:cNvSpPr/>
          <p:nvPr/>
        </p:nvSpPr>
        <p:spPr>
          <a:xfrm flipV="1">
            <a:off x="3924360" y="3141000"/>
            <a:ext cx="647640" cy="718920"/>
          </a:xfrm>
          <a:custGeom>
            <a:avLst/>
            <a:gdLst>
              <a:gd name="textAreaLeft" fmla="*/ 0 w 647640"/>
              <a:gd name="textAreaRight" fmla="*/ 567000 w 647640"/>
              <a:gd name="textAreaTop" fmla="*/ 556920 h 718920"/>
              <a:gd name="textAreaBottom" fmla="*/ 718920 h 718920"/>
            </a:gdLst>
            <a:ahLst/>
            <a:rect l="textAreaLeft" t="textAreaTop" r="textAreaRight" b="textAreaBottom"/>
            <a:pathLst>
              <a:path w="647700" h="719137">
                <a:moveTo>
                  <a:pt x="0" y="557212"/>
                </a:moveTo>
                <a:lnTo>
                  <a:pt x="404813" y="557212"/>
                </a:lnTo>
                <a:lnTo>
                  <a:pt x="404813" y="161925"/>
                </a:lnTo>
                <a:lnTo>
                  <a:pt x="323850" y="161925"/>
                </a:lnTo>
                <a:lnTo>
                  <a:pt x="485775" y="0"/>
                </a:lnTo>
                <a:lnTo>
                  <a:pt x="647700" y="161925"/>
                </a:lnTo>
                <a:lnTo>
                  <a:pt x="566738" y="161925"/>
                </a:lnTo>
                <a:lnTo>
                  <a:pt x="566738" y="719137"/>
                </a:lnTo>
                <a:lnTo>
                  <a:pt x="0" y="719137"/>
                </a:lnTo>
                <a:close/>
              </a:path>
            </a:pathLst>
          </a:custGeom>
          <a:solidFill>
            <a:srgbClr val="ccc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Bent-Up Arrow 21"/>
          <p:cNvSpPr/>
          <p:nvPr/>
        </p:nvSpPr>
        <p:spPr>
          <a:xfrm flipV="1">
            <a:off x="5292720" y="4076640"/>
            <a:ext cx="647640" cy="720720"/>
          </a:xfrm>
          <a:custGeom>
            <a:avLst/>
            <a:gdLst>
              <a:gd name="textAreaLeft" fmla="*/ 0 w 647640"/>
              <a:gd name="textAreaRight" fmla="*/ 567000 w 647640"/>
              <a:gd name="textAreaTop" fmla="*/ 559080 h 720720"/>
              <a:gd name="textAreaBottom" fmla="*/ 721440 h 720720"/>
            </a:gdLst>
            <a:ahLst/>
            <a:rect l="textAreaLeft" t="textAreaTop" r="textAreaRight" b="textAreaBottom"/>
            <a:pathLst>
              <a:path w="647700" h="720725">
                <a:moveTo>
                  <a:pt x="0" y="558800"/>
                </a:moveTo>
                <a:lnTo>
                  <a:pt x="404813" y="558800"/>
                </a:lnTo>
                <a:lnTo>
                  <a:pt x="404813" y="161925"/>
                </a:lnTo>
                <a:lnTo>
                  <a:pt x="323850" y="161925"/>
                </a:lnTo>
                <a:lnTo>
                  <a:pt x="485775" y="0"/>
                </a:lnTo>
                <a:lnTo>
                  <a:pt x="647700" y="161925"/>
                </a:lnTo>
                <a:lnTo>
                  <a:pt x="566738" y="161925"/>
                </a:lnTo>
                <a:lnTo>
                  <a:pt x="566738" y="720725"/>
                </a:lnTo>
                <a:lnTo>
                  <a:pt x="0" y="720725"/>
                </a:lnTo>
                <a:close/>
              </a:path>
            </a:pathLst>
          </a:custGeom>
          <a:solidFill>
            <a:srgbClr val="ccc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Bent-Up Arrow 22"/>
          <p:cNvSpPr/>
          <p:nvPr/>
        </p:nvSpPr>
        <p:spPr>
          <a:xfrm flipV="1">
            <a:off x="6948360" y="5013360"/>
            <a:ext cx="648000" cy="719280"/>
          </a:xfrm>
          <a:custGeom>
            <a:avLst/>
            <a:gdLst>
              <a:gd name="textAreaLeft" fmla="*/ 0 w 648000"/>
              <a:gd name="textAreaRight" fmla="*/ 567000 w 648000"/>
              <a:gd name="textAreaTop" fmla="*/ 557280 h 719280"/>
              <a:gd name="textAreaBottom" fmla="*/ 719280 h 719280"/>
            </a:gdLst>
            <a:ahLst/>
            <a:rect l="textAreaLeft" t="textAreaTop" r="textAreaRight" b="textAreaBottom"/>
            <a:pathLst>
              <a:path w="647700" h="719138">
                <a:moveTo>
                  <a:pt x="0" y="557213"/>
                </a:moveTo>
                <a:lnTo>
                  <a:pt x="404813" y="557213"/>
                </a:lnTo>
                <a:lnTo>
                  <a:pt x="404813" y="161925"/>
                </a:lnTo>
                <a:lnTo>
                  <a:pt x="323850" y="161925"/>
                </a:lnTo>
                <a:lnTo>
                  <a:pt x="485775" y="0"/>
                </a:lnTo>
                <a:lnTo>
                  <a:pt x="647700" y="161925"/>
                </a:lnTo>
                <a:lnTo>
                  <a:pt x="566738" y="161925"/>
                </a:lnTo>
                <a:lnTo>
                  <a:pt x="566738" y="719138"/>
                </a:lnTo>
                <a:lnTo>
                  <a:pt x="0" y="719138"/>
                </a:lnTo>
                <a:close/>
              </a:path>
            </a:pathLst>
          </a:custGeom>
          <a:solidFill>
            <a:srgbClr val="ccc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wn Arrow 24"/>
          <p:cNvSpPr/>
          <p:nvPr/>
        </p:nvSpPr>
        <p:spPr>
          <a:xfrm>
            <a:off x="1332000" y="537372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Rectangle 41" descr=""/>
          <p:cNvPicPr/>
          <p:nvPr/>
        </p:nvPicPr>
        <p:blipFill>
          <a:blip r:embed="rId9"/>
          <a:stretch/>
        </p:blipFill>
        <p:spPr>
          <a:xfrm>
            <a:off x="4479840" y="5711760"/>
            <a:ext cx="682560" cy="403200"/>
          </a:xfrm>
          <a:prstGeom prst="rect">
            <a:avLst/>
          </a:prstGeom>
          <a:ln w="0">
            <a:noFill/>
          </a:ln>
        </p:spPr>
      </p:pic>
      <p:sp>
        <p:nvSpPr>
          <p:cNvPr id="184" name="Down Arrow 42"/>
          <p:cNvSpPr/>
          <p:nvPr/>
        </p:nvSpPr>
        <p:spPr>
          <a:xfrm>
            <a:off x="4788000" y="5373720"/>
            <a:ext cx="71280" cy="287280"/>
          </a:xfrm>
          <a:prstGeom prst="downArrow">
            <a:avLst>
              <a:gd name="adj1" fmla="val 50000"/>
              <a:gd name="adj2" fmla="val 5037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4067280" y="14842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lbertus Extra Bold"/>
              </a:rPr>
              <a:t>SA Oyster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53" descr=""/>
          <p:cNvPicPr/>
          <p:nvPr/>
        </p:nvPicPr>
        <p:blipFill>
          <a:blip r:embed="rId10"/>
          <a:stretch/>
        </p:blipFill>
        <p:spPr>
          <a:xfrm>
            <a:off x="4406760" y="6364440"/>
            <a:ext cx="830520" cy="322200"/>
          </a:xfrm>
          <a:prstGeom prst="rect">
            <a:avLst/>
          </a:prstGeom>
          <a:ln w="0">
            <a:noFill/>
          </a:ln>
        </p:spPr>
      </p:pic>
      <p:sp>
        <p:nvSpPr>
          <p:cNvPr id="187" name="Down Arrow 54"/>
          <p:cNvSpPr/>
          <p:nvPr/>
        </p:nvSpPr>
        <p:spPr>
          <a:xfrm>
            <a:off x="4788000" y="6093000"/>
            <a:ext cx="71280" cy="28872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How much could it cos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epends on location, volume, method, markets &amp; ti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Lowest cost strateg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rt at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ockpile – Existing &amp;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et “nature” 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hred for volum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ck-load to Adela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$100/tonne r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Nett cost (minimum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ockpile – 40-60¢/Bas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uture waste – Simila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 rot="5400000">
            <a:off x="4009320" y="1971360"/>
            <a:ext cx="5445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Other disposal op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ste 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cess engineered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elaide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 sorting/cleaning, but pay $100/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ndfill disposal (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cost-effective at some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milar logistic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6a6a6"/>
                </a:solidFill>
                <a:latin typeface="Arial"/>
              </a:rPr>
              <a:t>Waste-to-di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Arial"/>
              </a:rPr>
              <a:t>Still “bleeding-edge”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6a6a6"/>
                </a:solidFill>
                <a:latin typeface="Arial"/>
              </a:rPr>
              <a:t>Inci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Arial"/>
              </a:rPr>
              <a:t>Not open burn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a6a6a6"/>
                </a:solidFill>
                <a:latin typeface="Arial"/>
              </a:rPr>
              <a:t>Expensive mobile plan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 rot="5400000">
            <a:off x="4242240" y="2102400"/>
            <a:ext cx="5340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are we talk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cope/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mmary (so f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next st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Your feedback &amp;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Contex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0-60¢/Baske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4-8% of basket replacement co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&lt;0.5% of farm-gate product val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ever, “Stockpile” disposal cos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1.5-2% of industry farm-gate product val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ummary (so far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985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What have we learn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re is potentially a large stockpile, which will continue to grow if nothing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ycling is possible – but re-processors require “quality waste mater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would require cleaning &amp; sorting of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ycling cost at least 40-60¢/Baske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eight cost only one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ndfill disposal could be a cheaper option for 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mmended industry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operate &amp; plan but retain 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tract out to minimis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se the market to achieve best price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ext Box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804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ext stage (CBA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www.theresitechgroup.com/images/stories/_mg_3996.jpg"/>
          <p:cNvPicPr/>
          <p:nvPr/>
        </p:nvPicPr>
        <p:blipFill>
          <a:blip r:embed="rId2"/>
          <a:srcRect l="0" t="25338" r="0" b="15541"/>
          <a:stretch/>
        </p:blipFill>
        <p:spPr>
          <a:xfrm>
            <a:off x="1042920" y="2852640"/>
            <a:ext cx="7129440" cy="279396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5" descr=""/>
          <p:cNvPicPr/>
          <p:nvPr/>
        </p:nvPicPr>
        <p:blipFill>
          <a:blip r:embed="rId3"/>
          <a:stretch/>
        </p:blipFill>
        <p:spPr>
          <a:xfrm>
            <a:off x="2494080" y="1974960"/>
            <a:ext cx="455292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What is CB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ancial analysis method for comparing investment options/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s all (relevant) costs and savings over time </a:t>
            </a:r>
            <a:r>
              <a:rPr b="0" lang="en-A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Nett/total benefit/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me method you would use as a gr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overnment ha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its own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special technique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ey ste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are the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dentifying &amp; quantifying cost/benefits (of these op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What are the op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600" spc="-1" strike="noStrike">
                <a:solidFill>
                  <a:srgbClr val="000000"/>
                </a:solidFill>
                <a:latin typeface="Arial"/>
              </a:rPr>
              <a:t>Option A: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Do nothing (Baseline scena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tinue to stockpile until not feasible,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PA License becomes required as deemed “on-site disposal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lassified as “prohibited” waste for landf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aste treatment” required to allow dis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sposal cost deferred &amp; could be substantially grea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600" spc="-1" strike="noStrike">
                <a:solidFill>
                  <a:srgbClr val="000000"/>
                </a:solidFill>
                <a:latin typeface="Arial"/>
              </a:rPr>
              <a:t>Option B: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 Dispose – No support/inter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cycle or landfill, whichever available &amp; chea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600" spc="-1" strike="noStrike">
                <a:solidFill>
                  <a:srgbClr val="000000"/>
                </a:solidFill>
                <a:latin typeface="Arial"/>
              </a:rPr>
              <a:t>Option C: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Recycle only – Support/intervention, e.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1 – Industry Le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2 – Mobile shre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3 – Freight subs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What are the costs/benefit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413000"/>
          <a:ext cx="8229600" cy="5160960"/>
        </p:xfrm>
        <a:graphic>
          <a:graphicData uri="http://schemas.openxmlformats.org/drawingml/2006/table">
            <a:tbl>
              <a:tblPr/>
              <a:tblGrid>
                <a:gridCol w="3683160"/>
                <a:gridCol w="909360"/>
                <a:gridCol w="909720"/>
                <a:gridCol w="907920"/>
                <a:gridCol w="909720"/>
                <a:gridCol w="9097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st/Bene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yster Indu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et price (Product stewardship-driv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les (Product stewardship-driv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nd (for stockpil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</a:t>
                      </a: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tion (Dispos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AU" sz="12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(Futu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agement/compliance (Industry, EPA, Counci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overnment investment (funding/sup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overnment oversight (compli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yster industry “Flow-on” economic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</a:t>
                      </a:r>
                      <a:r>
                        <a:rPr b="1" lang="en-AU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aste industry economic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AU" sz="12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(Futu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ycle industry economic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port Industry economic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</a:t>
                      </a: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AU" sz="1200" spc="-1" strike="noStrike">
                          <a:solidFill>
                            <a:srgbClr val="00b050"/>
                          </a:solidFill>
                          <a:latin typeface="Arial Narrow"/>
                        </a:rPr>
                        <a:t>(Futu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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Your advice is needed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re these the right op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yster industry costs/benef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How long could you continue to stockpi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Would recycling initiative improve price &amp; sal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Is land a valuable commodit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Other costs/benefits to be considered – are there an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nts &amp; feedbac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Line Building"/>
          <p:cNvPicPr/>
          <p:nvPr/>
        </p:nvPicPr>
        <p:blipFill>
          <a:blip r:embed="rId1"/>
          <a:srcRect l="0" t="35748" r="0" b="25783"/>
          <a:stretch/>
        </p:blipFill>
        <p:spPr>
          <a:xfrm>
            <a:off x="900000" y="2565360"/>
            <a:ext cx="77835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cknowledgements &amp; 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side"/>
          <p:cNvPicPr/>
          <p:nvPr/>
        </p:nvPicPr>
        <p:blipFill>
          <a:blip r:embed="rId1"/>
          <a:srcRect l="32055" t="0" r="0" b="0"/>
          <a:stretch/>
        </p:blipFill>
        <p:spPr>
          <a:xfrm>
            <a:off x="900000" y="2781360"/>
            <a:ext cx="7488360" cy="2422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C:\Data\Rawtec\Rawtec Projects\Current Projects\RDA Oyster Bay Project\SAOGA Seminar\Data\SAOGA logo.pn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771640" y="5661000"/>
            <a:ext cx="1943280" cy="973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Data\Rawtec\Rawtec Projects\Current Projects\RDA Oyster Bay Project\SAOGA Seminar\Data\logo_epa.gif"/>
          <p:cNvPicPr/>
          <p:nvPr/>
        </p:nvPicPr>
        <p:blipFill>
          <a:blip r:embed="rId3"/>
          <a:stretch/>
        </p:blipFill>
        <p:spPr>
          <a:xfrm>
            <a:off x="7883640" y="5734080"/>
            <a:ext cx="863640" cy="942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0" descr="RDA - Logo.BMP"/>
          <p:cNvPicPr/>
          <p:nvPr/>
        </p:nvPicPr>
        <p:blipFill>
          <a:blip r:embed="rId4"/>
          <a:stretch/>
        </p:blipFill>
        <p:spPr>
          <a:xfrm>
            <a:off x="395280" y="5734080"/>
            <a:ext cx="2087640" cy="909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C:\Data\Rawtec\Rawtec Projects\Current Projects\RDA Oyster Bay Project\SAOGA Seminar\Data\logo_dmitre.png"/>
          <p:cNvPicPr/>
          <p:nvPr/>
        </p:nvPicPr>
        <p:blipFill>
          <a:blip r:embed="rId5"/>
          <a:stretch/>
        </p:blipFill>
        <p:spPr>
          <a:xfrm>
            <a:off x="4859280" y="5805360"/>
            <a:ext cx="26812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Proj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C:\Data\Rawtec\Rawtec Projects\Current Projects\RDA Oyster Bay Project\SAOGA Seminar\Data\banner_07.jpg"/>
          <p:cNvPicPr/>
          <p:nvPr/>
        </p:nvPicPr>
        <p:blipFill>
          <a:blip r:embed="rId1"/>
          <a:srcRect l="29689" t="0" r="0" b="0"/>
          <a:stretch/>
        </p:blipFill>
        <p:spPr>
          <a:xfrm>
            <a:off x="826920" y="2708280"/>
            <a:ext cx="7602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h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3880" y="980640"/>
            <a:ext cx="8436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 oyster indus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Economic value – $92mill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Employment – supports up to 1000 jo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yster baske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Up to 2.5 million “basket units” in 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$20-30 million dollars of capital invest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Many different ty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Last between 5-20yrs depending on type &amp; qual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aste oyster baske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Disposal is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EOL baskets are  being stockpiled by many grow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Cost-effective &amp; sustainable solution is sou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yster Basket Typ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3880" y="980640"/>
            <a:ext cx="35704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e5"/>
                </a:solidFill>
                <a:latin typeface="Wingdings"/>
                <a:ea typeface="Wingdings"/>
              </a:rPr>
              <a:t></a:t>
            </a:r>
            <a:r>
              <a:rPr b="0" lang="en-AU" sz="28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e5"/>
                </a:solidFill>
                <a:latin typeface="Arial"/>
              </a:rPr>
              <a:t>Two-setter/R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932360" y="981000"/>
            <a:ext cx="3570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</a:t>
            </a:r>
            <a:r>
              <a:rPr b="0" lang="en-AU" sz="2800" spc="-1" strike="noStrike">
                <a:solidFill>
                  <a:srgbClr val="00b050"/>
                </a:solidFill>
                <a:latin typeface="Arial"/>
              </a:rPr>
              <a:t>Pillow bas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24000" y="3789360"/>
            <a:ext cx="403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r>
              <a:rPr b="0" lang="en-AU" sz="2800" spc="-1" strike="noStrike">
                <a:solidFill>
                  <a:srgbClr val="ff3300"/>
                </a:solidFill>
                <a:latin typeface="Arial"/>
              </a:rPr>
              <a:t>Manufactured Bas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148360" y="3789360"/>
            <a:ext cx="24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</a:t>
            </a:r>
            <a:r>
              <a:rPr b="0" lang="en-AU" sz="2800" spc="-1" strike="noStrike">
                <a:solidFill>
                  <a:srgbClr val="ffc000"/>
                </a:solidFill>
                <a:latin typeface="Arial"/>
              </a:rPr>
              <a:t>Aqua-t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Data\Rawtec\Rawtec Projects\Current Projects\RDA Oyster Bay Project\Site Visits June 2013\Photos - Denial &amp; Smoky Bays\IMG_3148.JPG"/>
          <p:cNvPicPr/>
          <p:nvPr/>
        </p:nvPicPr>
        <p:blipFill>
          <a:blip r:embed="rId1"/>
          <a:stretch/>
        </p:blipFill>
        <p:spPr>
          <a:xfrm>
            <a:off x="971640" y="1484280"/>
            <a:ext cx="2087640" cy="2305080"/>
          </a:xfrm>
          <a:prstGeom prst="rect">
            <a:avLst/>
          </a:prstGeom>
          <a:ln w="9360">
            <a:solidFill>
              <a:srgbClr val="0000e5"/>
            </a:solidFill>
            <a:miter/>
          </a:ln>
        </p:spPr>
      </p:pic>
      <p:pic>
        <p:nvPicPr>
          <p:cNvPr id="126" name="Picture 7" descr="C:\Data\Rawtec\Rawtec Projects\Current Projects\RDA Oyster Bay Project\Site Visits June 2013\Photos - Cowell &amp; Coffin Bay\IMG_3243.JPG"/>
          <p:cNvPicPr/>
          <p:nvPr/>
        </p:nvPicPr>
        <p:blipFill>
          <a:blip r:embed="rId2"/>
          <a:srcRect l="8807" t="22668" r="13918" b="17999"/>
          <a:stretch/>
        </p:blipFill>
        <p:spPr>
          <a:xfrm>
            <a:off x="4427640" y="1557360"/>
            <a:ext cx="3438360" cy="19908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27" name="Picture 8" descr="C:\Data\Rawtec\Rawtec Projects\Current Projects\RDA Oyster Bay Project\Site Visits June 2013\Photos - Cowell &amp; Coffin Bay\IMG_3244.JPG"/>
          <p:cNvPicPr/>
          <p:nvPr/>
        </p:nvPicPr>
        <p:blipFill>
          <a:blip r:embed="rId3"/>
          <a:srcRect l="12794" t="27784" r="17574" b="13778"/>
          <a:stretch/>
        </p:blipFill>
        <p:spPr>
          <a:xfrm>
            <a:off x="468360" y="4365720"/>
            <a:ext cx="3598920" cy="192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8" name="Picture 9" descr="C:\Users\Chris\AppData\Local\Microsoft\Windows\Temporary Internet Files\Content.Word\photo.jpg"/>
          <p:cNvPicPr/>
          <p:nvPr/>
        </p:nvPicPr>
        <p:blipFill>
          <a:blip r:embed="rId4"/>
          <a:srcRect l="13465" t="38283" r="13250" b="14465"/>
          <a:stretch/>
        </p:blipFill>
        <p:spPr>
          <a:xfrm>
            <a:off x="4932360" y="4292640"/>
            <a:ext cx="2448000" cy="21607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Waste Oyster Baske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3880" y="980640"/>
            <a:ext cx="35704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e5"/>
                </a:solidFill>
                <a:latin typeface="Wingdings"/>
                <a:ea typeface="Wingdings"/>
              </a:rPr>
              <a:t></a:t>
            </a:r>
            <a:r>
              <a:rPr b="0" lang="en-AU" sz="2800" spc="-1" strike="noStrike">
                <a:solidFill>
                  <a:srgbClr val="0000e5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e5"/>
                </a:solidFill>
                <a:latin typeface="Arial"/>
              </a:rPr>
              <a:t>Bef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292720" y="981000"/>
            <a:ext cx="35686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</a:t>
            </a:r>
            <a:r>
              <a:rPr b="0" lang="en-AU" sz="2800" spc="-1" strike="noStrike">
                <a:solidFill>
                  <a:srgbClr val="00b050"/>
                </a:solidFill>
                <a:latin typeface="Arial"/>
              </a:rPr>
              <a:t>Stockp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55640" y="628164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r>
              <a:rPr b="0" lang="en-AU" sz="2800" spc="-1" strike="noStrike">
                <a:solidFill>
                  <a:srgbClr val="ff3300"/>
                </a:solidFill>
                <a:latin typeface="Arial"/>
              </a:rPr>
              <a:t>Shre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C:\Data\Rawtec\Rawtec Projects\Current Projects\RDA Oyster Bay Project\Site Visits June 2013\Photos - Cowell &amp; Coffin Bay\IMG_3271.JPG"/>
          <p:cNvPicPr/>
          <p:nvPr/>
        </p:nvPicPr>
        <p:blipFill>
          <a:blip r:embed="rId1"/>
          <a:srcRect l="0" t="0" r="7860" b="23342"/>
          <a:stretch/>
        </p:blipFill>
        <p:spPr>
          <a:xfrm>
            <a:off x="4716360" y="1484280"/>
            <a:ext cx="3672000" cy="228276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134" name="Rectangle 3"/>
          <p:cNvSpPr/>
          <p:nvPr/>
        </p:nvSpPr>
        <p:spPr>
          <a:xfrm>
            <a:off x="6875640" y="4365720"/>
            <a:ext cx="15141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</a:t>
            </a:r>
            <a:r>
              <a:rPr b="0" lang="en-AU" sz="2800" spc="-1" strike="noStrike">
                <a:solidFill>
                  <a:srgbClr val="ffc000"/>
                </a:solidFill>
                <a:latin typeface="Arial"/>
              </a:rPr>
              <a:t>B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C:\Data\Rawtec\Rawtec Projects\Current Projects\RDA Oyster Bay Project\Site Visits June 2013\Photos - Denial &amp; Smoky Bays\IMG_3153.JPG"/>
          <p:cNvPicPr/>
          <p:nvPr/>
        </p:nvPicPr>
        <p:blipFill>
          <a:blip r:embed="rId2"/>
          <a:stretch/>
        </p:blipFill>
        <p:spPr>
          <a:xfrm>
            <a:off x="611280" y="1474920"/>
            <a:ext cx="3024000" cy="2259000"/>
          </a:xfrm>
          <a:prstGeom prst="rect">
            <a:avLst/>
          </a:prstGeom>
          <a:ln w="9360">
            <a:solidFill>
              <a:srgbClr val="0000e5"/>
            </a:solidFill>
            <a:miter/>
          </a:ln>
        </p:spPr>
      </p:pic>
      <p:pic>
        <p:nvPicPr>
          <p:cNvPr id="136" name="Picture 13" descr="C:\Data\Rawtec\Rawtec Projects\Current Projects\RDA Oyster Bay Project\Site Visits June 2013\Photos - Denial &amp; Smoky Bays\IMG_3193.JPG"/>
          <p:cNvPicPr/>
          <p:nvPr/>
        </p:nvPicPr>
        <p:blipFill>
          <a:blip r:embed="rId3"/>
          <a:stretch/>
        </p:blipFill>
        <p:spPr>
          <a:xfrm>
            <a:off x="611280" y="4437000"/>
            <a:ext cx="2592360" cy="1800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Right Arrow 14"/>
          <p:cNvSpPr/>
          <p:nvPr/>
        </p:nvSpPr>
        <p:spPr>
          <a:xfrm>
            <a:off x="3851280" y="2349360"/>
            <a:ext cx="720720" cy="574920"/>
          </a:xfrm>
          <a:prstGeom prst="rightArrow">
            <a:avLst>
              <a:gd name="adj1" fmla="val 50000"/>
              <a:gd name="adj2" fmla="val 5014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Arrow 15"/>
          <p:cNvSpPr/>
          <p:nvPr/>
        </p:nvSpPr>
        <p:spPr>
          <a:xfrm rot="9619200">
            <a:off x="3304800" y="4211280"/>
            <a:ext cx="2620800" cy="3618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ight Arrow 16"/>
          <p:cNvSpPr/>
          <p:nvPr/>
        </p:nvSpPr>
        <p:spPr>
          <a:xfrm rot="4053600">
            <a:off x="5794560" y="4252680"/>
            <a:ext cx="777960" cy="362160"/>
          </a:xfrm>
          <a:prstGeom prst="rightArrow">
            <a:avLst>
              <a:gd name="adj1" fmla="val 50000"/>
              <a:gd name="adj2" fmla="val 49904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C:\Data\Rawtec\Rawtec Projects\Current Projects\RDA Oyster Bay Project\Site Visits June 2013\G. Seidl Information &amp; Data - Denial Bay\wwide lunch,angasi,baskets 022.jpg"/>
          <p:cNvPicPr/>
          <p:nvPr/>
        </p:nvPicPr>
        <p:blipFill>
          <a:blip r:embed="rId4"/>
          <a:srcRect l="10849" t="21701" r="13211" b="20449"/>
          <a:stretch/>
        </p:blipFill>
        <p:spPr>
          <a:xfrm>
            <a:off x="5435640" y="4941720"/>
            <a:ext cx="2976480" cy="1700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539640" y="1176480"/>
            <a:ext cx="784872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Scope/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What materials are used in oyster baske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How long do baskets last (or EOL)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How much waste is genera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Where is waste being stockpil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Who can recycle it &amp; in what for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How do we get it from grower to recycl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What will it cos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What is the best option based on cost-benefit analysis (CBA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sultation &amp;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Oyster Gr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Recycl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Arial"/>
              </a:rPr>
              <a:t>Waste collectors/trans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alysis &amp;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ption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Draft findings </a:t>
            </a:r>
            <a:r>
              <a:rPr b="0" lang="en-AU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 Today’s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BA assessment of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commendations &amp;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05:24:07Z</dcterms:created>
  <dc:creator>KylieFergusen</dc:creator>
  <dc:description/>
  <dc:language>en-US</dc:language>
  <cp:lastModifiedBy>Chris</cp:lastModifiedBy>
  <dcterms:modified xsi:type="dcterms:W3CDTF">2013-08-08T00:26:23Z</dcterms:modified>
  <cp:revision>144</cp:revision>
  <dc:subject/>
  <dc:title>Slide 1</dc:title>
</cp:coreProperties>
</file>