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7D16-8C4B-4B0A-8BD0-AB9A03C24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6C74-9543-4BDB-AAB6-9B0CD0E0C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2E1B-638C-4E87-A80C-D2A71A4D3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A8B7-5D03-43F6-9CC2-5C2DBA2B2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63F6-F2DC-47AC-B472-1EAD245CCF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4F04-39C9-47A4-84AB-6547D086F6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128D-BB82-4F71-BE7D-5B59BFA615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6E20-11C4-4C02-A656-DAF3F7F72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0A9B-DCC1-4684-9B9E-6AB71B5D76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0B52-8C08-40C0-8100-246AA849F0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518E-F346-410C-8A81-8A7EBD2F1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909E-CA09-47F2-B7AF-C8A617F7B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E27A-8323-467A-8CC9-75984E8C69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6F48-654B-4829-A654-958F7C30A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E7A10-BBDD-4F3B-BF3A-2ECB98830B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15DD-52F7-4A1C-8746-660212E1FC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B0E5-25AB-42F3-B329-D8686783D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FC31-06A7-467B-9E75-F90064EBE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0B6C-E2E2-420B-84E2-C21DFF957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501D-4E9D-4F39-AEDE-DCB98C085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8EEE-EFD3-46E5-9BEA-B20D4803A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DE5D-D653-43AF-9A18-0A421584D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9A58-2F2B-40D4-BFA2-D491B4C9F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3359-0DE3-4D49-859A-7F44ABEBA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Click to edit the title text format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marL="185040"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185040" indent="-185040" algn="r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185040" indent="-185040" algn="r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85040" indent="-185040" algn="r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85040" indent="-185040" algn="r"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85040" indent="-185040" algn="r"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85040" indent="-185040" algn="r">
              <a:spcBef>
                <a:spcPts val="601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0C1F-31BA-4957-9EE6-9541472889D5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-2476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24160" indent="-20988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EFC-F910-4B72-95B7-983A37E765AC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327-EC77-40DF-BBF8-B9C6DFD5C7C0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2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4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8200" y="1123560"/>
            <a:ext cx="7851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The South Australian Oyster Industry</a:t>
            </a:r>
            <a:endParaRPr b="1" lang="en-US" sz="50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418840"/>
            <a:ext cx="785340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OMS Emergency Response Pla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176-DF85-43A3-96EE-FFBF771A56BB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1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POMS Emergency Response Plan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32560" indent="-232560"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2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2560" indent="-23256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xercise Seafox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95440" indent="-2451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starting point -  held November 2012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32560" indent="-23256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quavet  Pla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95440" indent="-2451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urrently distributed for industry com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32560" indent="-23256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dustry Pla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95440" indent="-2451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tegrating state &amp; national emergency disease response preparedness within the Australian edible oyster Industr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D57-7A3F-4D14-A929-AB33ECB786C9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0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02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POMS Emergency Response Plan 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What has SAOGA/industry done so far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tock Movement Register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ntinel/Surveillance Program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argeted communication strategy to associated bodies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cfis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ravan &amp; Camping Associ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DC2-D597-4F44-A910-B7B4031ABDA6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266760" y="1981080"/>
            <a:ext cx="8250120" cy="4407120"/>
          </a:xfrm>
          <a:prstGeom prst="rect">
            <a:avLst/>
          </a:prstGeom>
          <a:ln w="0">
            <a:noFill/>
          </a:ln>
        </p:spPr>
      </p:pic>
      <p:sp>
        <p:nvSpPr>
          <p:cNvPr id="107" name="Freeform 2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0" name="Freeform 4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2" name="Rectangle 7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tock Movement Register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BBD-2948-49DB-8864-D490CE659252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8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0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tock Movement Register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444600" y="2082960"/>
            <a:ext cx="82548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F186-88F8-4460-920B-CC5E0CB73B23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27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9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tock Movement Register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444600" y="2082960"/>
            <a:ext cx="82548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7378-E1BF-4FA6-98C3-4B7F01D1E0BF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6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tock Movement Register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444600" y="2082960"/>
            <a:ext cx="82548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11E-2ADE-4D19-965E-B7E1DA0883BC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5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7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POMS Emergency Response Plan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What's next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mproved uptake of the Stock Register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mplementation of a cost effective Sentinel/Surveillance  program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cluding investigation of an accredited test in S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ntinuation of communication strateg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nalisation of the emergency response pla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480520" y="6531120"/>
            <a:ext cx="206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BC63-5FF1-48E9-A719-E3E604CE8016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Freeform 1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Freeform 2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4" name="Freeform 3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" name="Freeform 4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6" name="Rectangle 6"/>
          <p:cNvSpPr/>
          <p:nvPr/>
        </p:nvSpPr>
        <p:spPr>
          <a:xfrm>
            <a:off x="2666880" y="6531120"/>
            <a:ext cx="3365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South Australian Oyster Growers Associ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POMS Emergency Response Plan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1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mergency Response Plan Proces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dustry Consulta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gional meetings with grow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Needs to be a bay by bay plan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is the procedure when an outbreak is suspected before confirm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happens in the first 12, 24, 48 hours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pendant on the bay what is the initial preferred course of a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24160" indent="-20988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radication, containment, contro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Plan developed and agreed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8-06T06:21:22Z</dcterms:modified>
  <cp:revision>1</cp:revision>
  <dc:subject/>
  <dc:title>Slide 1</dc:title>
</cp:coreProperties>
</file>