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CA24-7749-489E-84E5-D5A506315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717E-5119-452C-9DB2-8E6AF5618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98D-594D-4A4A-B4DF-8437D2E4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A7D-88F5-4BA7-AD42-03AEF22F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9AF-4BD0-402A-BED0-F81EC15B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4CC-1C75-42A1-927F-439BF562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B6D-5184-40C2-AC9E-AB3736CD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2743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BD6-C107-4E8A-B6B8-DA5ECBE5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458-5A98-4459-BFD1-B302A643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DB3-61B7-46CD-98D6-8A131746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AE0-E55C-4FDB-8A92-E4EECE8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C51-BFE5-43C7-A55B-57F53CC1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D37-563B-4845-8588-38E1CED3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87B-C4DE-4231-B744-7B4572D5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71280" y="2743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Picture3"/>
          <p:cNvPicPr/>
          <p:nvPr/>
        </p:nvPicPr>
        <p:blipFill>
          <a:blip r:embed="rId2"/>
          <a:stretch/>
        </p:blipFill>
        <p:spPr>
          <a:xfrm>
            <a:off x="0" y="0"/>
            <a:ext cx="9698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796D-4587-4CDE-9C3D-748974249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icture1"/>
          <p:cNvPicPr/>
          <p:nvPr/>
        </p:nvPicPr>
        <p:blipFill>
          <a:blip r:embed="rId1"/>
          <a:stretch/>
        </p:blipFill>
        <p:spPr>
          <a:xfrm>
            <a:off x="3203640" y="0"/>
            <a:ext cx="3024000" cy="2319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10033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7308720" y="6146640"/>
            <a:ext cx="1835280" cy="711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banner_internal"/>
          <p:cNvPicPr/>
          <p:nvPr/>
        </p:nvPicPr>
        <p:blipFill>
          <a:blip r:embed="rId4"/>
          <a:stretch/>
        </p:blipFill>
        <p:spPr>
          <a:xfrm>
            <a:off x="7308720" y="0"/>
            <a:ext cx="1835280" cy="1023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5"/>
          <a:stretch/>
        </p:blipFill>
        <p:spPr>
          <a:xfrm>
            <a:off x="971640" y="5992920"/>
            <a:ext cx="1728720" cy="865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1187280" y="2637000"/>
            <a:ext cx="712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Final ASC LOGO - Horizontal Master"/>
          <p:cNvPicPr/>
          <p:nvPr/>
        </p:nvPicPr>
        <p:blipFill>
          <a:blip r:embed="rId6"/>
          <a:stretch/>
        </p:blipFill>
        <p:spPr>
          <a:xfrm>
            <a:off x="3348000" y="5911920"/>
            <a:ext cx="2952720" cy="946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1332000" y="32958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ding model to secure ou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y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00000" y="155736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011 POMS appears in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dustry demand POMS now primary trait for selective breed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SI simply not resourced to deliver on industry w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tic solution for POMS is realistically some way off but at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do we fund ASI while we are getting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o Where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C09, YC11 and YC12 year class field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C13 field tests f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rrently best families ~40%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eter Kube calculates ~70% in 5 years if status quo re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elerated gain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usband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fectiv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re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reased generatio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reeding from surviv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Breeding program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dependent review- Morten R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siness model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ggested that all of industry funding model be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ll of industry to see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eeding program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igh potential for breeding for diseas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ntary levy on hatc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~2.00/thousand spat for fixed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ntary to hatcheries, compulsory to customers of participating hatc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peful of all hatcheries particip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eived CRC legacy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ecutiv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eg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ow will i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vy collected by 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t this stage ASI will be the recip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A has the discretion to change arrangement based on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ecutive Chair advertised next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atcheries will receive invitation to partici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ked to indicate in principl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termine indicative funding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velop value proposition for hatcheries/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termine detailed budget &amp; work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  Number of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rease generatio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rategies for bringing i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nding infectivity model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t levy in place ASAP and get on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05:33:15Z</dcterms:created>
  <dc:creator>parkinson</dc:creator>
  <dc:description/>
  <dc:language>en-US</dc:language>
  <cp:lastModifiedBy>Matt</cp:lastModifiedBy>
  <dcterms:modified xsi:type="dcterms:W3CDTF">2013-08-07T23:31:17Z</dcterms:modified>
  <cp:revision>98</cp:revision>
  <dc:subject/>
  <dc:title>Slide 1</dc:title>
</cp:coreProperties>
</file>